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F54-E765-435B-B2B4-F2CB556D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79B-13D1-41FA-BC7A-103E0700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B6EB-FE84-419A-9D0D-F7F89B6E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FB5-B702-4C11-AC5B-DB96E6B4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271B-44B4-4CB5-A2A3-DBA7138B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9FA8-A120-4611-AD7B-0E6AE26A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CD45-5492-4696-9637-E2187187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0C02-DB4B-40C9-887A-F31F280B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DA83-125B-49A3-BB73-0846D324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F209-F85F-4E8A-AB5C-921CD512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7DF8-AD99-438D-8E26-271D011A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C76-A2F5-421F-82E1-2B3FCCB3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2165-210A-4C0D-AC7A-2568FA77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FFB5-FDAA-440D-9000-147AFA83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B9F3-1B26-42C6-8C96-F92D15DE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8069-EF8B-4905-BF0E-2CC01394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74FC-78BE-4B6E-901B-80975B4D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9E5D-1177-4B95-98CC-8365C27C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4CA-3B76-4E61-9583-B9A2453F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8BE-879D-4877-89C8-F3A084BD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48F6-9B75-4FEF-9E10-609AE8A0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8F9D-579F-4868-BC56-D05CB7CC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6B8-DEC9-43EB-AF3B-0EFE2600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9CDA-C0DD-402A-949D-CC07429F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6941-B250-4375-A723-4447C35977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622A-13ED-408B-B061-FFF928E647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Cum ne influenteaza televiziunea viata de zi cu zi?</a:t>
            </a: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86200" y="3505320"/>
            <a:ext cx="97956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15000" y="2895480"/>
            <a:ext cx="2209680" cy="1524240"/>
          </a:xfrm>
          <a:prstGeom prst="cloudCallout">
            <a:avLst>
              <a:gd name="adj1" fmla="val -94972"/>
              <a:gd name="adj2" fmla="val -562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S télévisionS en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301680"/>
            <a:ext cx="6931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despre</a:t>
            </a: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sturile TV din Fra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ţ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1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 chaînes de télévision en France sont très intéressantes.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us d'informations sur chaque chaîne de télévis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552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376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espre utilitatea unui post TV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bog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ţ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rea vocabularului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î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 limba francez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1600200"/>
          <a:ext cx="8077320" cy="463392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 sais que les chaînes tv  sont importantes dans le développement du vocabulaire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 veux savoir les actualités pour développer mon vocabulaire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4269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Ioana</cp:lastModifiedBy>
  <dcterms:modified xsi:type="dcterms:W3CDTF">2009-10-18T14:35:36Z</dcterms:modified>
  <cp:revision>19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